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060-6394-4048-8D62-2A8AAA32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F14-7977-4B4B-A8B6-5E9B8C8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0C8C2-B443-40AB-A895-C43A865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39165-D811-4052-8B05-A9093331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8D3C5-F011-4E19-81F6-8C4B7DD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0205B-008C-4423-9FC9-2B97759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6786-FA71-480A-B95C-581BE4D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A78F8-E926-4521-8B8C-66BE9E0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886F5-F620-4A54-9AF5-49BDF19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6543-AC90-4315-B7F5-2677FAC7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36AB-3FCD-4691-AD6B-3CBED74C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6DD5B-47A7-4942-8533-518BB01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F89-417D-4196-A4A5-D4A4113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0235-2989-4C84-A2BD-CBF801A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ED4ED-7E81-47AA-9DFE-5324B301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4836F-A6C3-4D9C-85DB-1F68DF96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E73D9-7CE8-4562-9BD9-095023E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3ABC2-4D8E-460F-A41B-8F18A3A6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DBC0F-9251-4EE6-B065-2A6C76E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10EFC-1689-417C-ABE8-279AE64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7596A-44A0-41B2-B8F7-F635D46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319FC-8E07-428B-AA30-7A4CBDC6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035F6-8D05-472B-983F-35802F22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5D2-8E08-4D6D-8EE6-2D247DF4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43F31-DD3E-4005-BC7E-0F4B0E1C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8795-A9C8-4022-BA7A-A2AE7987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0815B-DAED-430C-9106-5078A43F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AA34-C75D-4346-83C6-DC10314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80263-6BB5-439B-BF0D-C7CAB09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5B86B-5334-49E8-A183-C41B4007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64039-D0FD-42B5-8EEB-16BBD3ED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9AC52-1F52-4EFA-AF02-27EC7EF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E7DB-706C-4504-9C28-B6DB365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3D7E-A098-462A-8919-89F1EED6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B728-1968-4F60-8197-756992D9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0B345-FEC8-42C3-801A-DD318F2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F7B4-56E3-41DA-9910-CF0E9A90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68A1-5D0E-4D90-AB99-95A0B555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21F14-C3B3-493C-ACB1-961BD929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A0FC1-4797-4AD8-8649-728E55BA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46AC3-37F1-439C-921A-EB8C5C3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4A9B7-730D-49FB-BAF6-AB19152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3B0BE-B596-4F08-9A28-D31FAC82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7EBD-A602-485A-958D-C82F465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BEDD0-E928-498D-A7C0-A30A95B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68E-0CC3-440F-AD4A-D819F3FC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E1E8C-7BA8-4787-8807-E01B476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ADB12-8ADC-45D2-BE1D-9005C20C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4318-740E-41A9-94DD-93B6602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41F7A-E4DC-4785-8234-E57C131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D8413-1881-4B8E-B0ED-D3A6C52A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8B8EB-5586-45B5-ABE9-336D8CA9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61991-8C58-4F2B-9415-B1C7477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6CEA3-6AC6-4107-A340-129B56D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8E918-CAF5-4B86-9FCA-8C4E3BE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4C05F-9E61-476C-BB95-9E11241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9EC4-747A-424C-BEAA-4F657FF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0B71C-AF5C-4755-9FFB-93ACC694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8762F-C002-4039-8C65-12CAB04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1DD58-94BA-46C5-B77D-E40049A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B8D14-2400-4044-8CDA-85B267A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B585C-7597-47A2-92D1-7FACD008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EC026-3332-4352-AB41-AE29A603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99BA2-0B1F-4C0C-B6D4-03F9D11D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C9443-350F-43E4-A4E1-78D525B3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080F3-724B-411F-A55F-642B67CB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C088C-A1C2-47FA-B222-A8D1C368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4F01-BFD1-4B69-974F-044F33C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DEE30-43D6-4F6B-BF10-2DBA8D3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B2FEE-E222-406A-8E23-B6FC5408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27564-46AC-4C26-8E33-DAB1578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2CC80-210C-42E0-B0EF-C7B0DD0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7E2DF-EFE4-4E4D-9AA5-26340B6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4B012-78B6-4737-B17B-BA4795E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E1A53-0F31-4B4F-971B-7F27F224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7883D-0668-4EB2-BCBD-00D21A0F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4870A-4A3E-46B1-94C4-3B3F3ECB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F60A-5B73-4DDD-8C0A-EE02BD4B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BF18-69D4-43C8-B10A-52C8EFA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644-C794-4693-B8F9-3640DD9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50C-B532-4D14-A506-B471AF6A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A3C-208D-47C8-88FD-AF61B3C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893B-2DBE-4BA0-B7AE-31274F0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950-79C6-4F50-95AB-7C515B5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1D3-6EA2-418B-A723-60365AE0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0D8B-230B-4AA9-B2B7-213E6454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AF13-BCC2-4492-9B23-83124ED9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9A87-C2E8-4752-9775-2177F98F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4190-AFE6-4570-AB13-3145277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46C5-884C-4D6B-92F2-83038BBF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35F7-C8A6-411D-A72F-F2D261F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24F-EB15-49B9-ADEF-FB3E915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7D54-7FCB-498D-837D-4CF30591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CF3A-8242-408C-8F21-1334970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7E96F-4F0C-40D7-86C7-ABA3900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72B7-CB02-423A-AFFD-39C4791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3492-2ACD-4A7D-8480-6DD78E38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0934-FCE9-4597-B65C-17435AB2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F855-0DC0-480F-97D7-F59739E4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0FE4-EAE4-43CF-A26F-AA86F2BC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A172-B44E-411D-A71F-E4B1A7E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F67A-2677-4F18-885B-22D63969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41D-9287-4370-A081-19D43021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8462-B8E7-4E79-8E36-460D5E2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DE64-CD69-41DE-B189-EC5A04DC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56F2-95E5-4CCD-B00D-6A20DD1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2452-9B93-41C9-A29B-EA30647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503B-9200-4EC5-8E88-A9BECF6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2540-FB13-47F8-88A3-06059ED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E1C2-A1F0-4127-9F4A-F1FF219A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805F-BA07-4543-84DA-4EB9D27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0BF5-63A2-4840-B64A-48B1C17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480C6-7DB1-4F79-9A6A-7A317985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B1A-F756-4388-B607-25BE923D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36B57-6ECF-4DE5-965B-B81F623C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B8AB0-26CB-49EA-AC08-58A4442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BEB2E-9FEF-4636-BD20-EF17E32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1A6A4-E125-4C03-9CBE-DB64FAB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21F18-7554-45C5-AA31-8AD9593F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CB343-EECA-4B28-A7EA-44DE099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1B877-6736-4366-BA52-4D3C29A0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7988E-8CE0-4482-B214-3E1C286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F5466-B26B-4C5A-AE4C-9B3CBA1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98A1F-7375-43BC-945E-40443AD4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860-E294-4984-AB0D-3718C4D0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EACD5-4A37-42B8-8830-2FA0E4C7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968F-7008-4EB9-BC46-C30F8E0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5D463-21D3-4651-88A4-46765EC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DEDD-77F7-414B-AF5A-EDBEDE7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9EEF-2A74-4DAA-90D4-F6B4119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0037-223D-43DA-8373-9939C2FB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BC7B-ABC4-4C88-9E13-9286B8C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46C1-7979-47F7-8BD3-A90066F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0830-250C-4F10-803F-70CD260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B0D2-2C3D-48E1-B669-E49C5B8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50D-8CEB-4A56-9DB0-33E159C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96E5-D30B-4EA8-87D3-0B2F371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24CA-B645-46E3-8DE8-6F1B9A91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F6C5-F356-4990-9C14-8CB7B99B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3AB6-D796-4EEC-8C91-E1924DA5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6E38-D4A6-4F71-8FFA-3C1DC65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709BC-D98F-4FF7-BF50-174B12A4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2EEE-D282-4C85-8E24-F1420214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4781-735A-4E41-9011-72ACDFB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258C-F8FD-4B5C-8BA6-E73E67E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BE7A-FCB5-4C67-990B-9EBD0BD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55D-0CD8-4196-BB8B-F532799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B316-EFBF-4DFD-A155-7F1DD67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2F823-4627-4141-A6AF-AE743C2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CFCB-E62B-45D9-A9F7-DF27862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C0D5-95E5-45EA-B8C7-7D9F2AFD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853A-5971-4641-8447-FD6E6E45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88BAD-5221-4018-AD12-88D7D795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83F3D-6786-4154-A769-F6B5B449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8F1C6-B4AC-4C20-A485-A4FB0C5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241F8-EABB-4444-8CF6-E69B6DC3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A2906-8CD3-4960-B678-09C47B2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AA5-8686-4565-9E2D-FD1E9F8D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D89CD-2AEC-4446-8E83-6DDD951C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68DC8-3513-4504-B8F9-2E56DE6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28AA2-0A7B-4D2E-BAF5-369DB0A3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19BDE3-6D8A-4E2D-8D8E-B0F4A53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C44392-BCB0-4B76-8A3A-24AFE50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65AC7-E8CC-4136-8A7E-586BBCC8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E1166-7B01-410E-B3D7-1133CDFD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785E-64EE-4E24-9405-4591DAF9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E603D-1050-46D0-84C2-5B49AED1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95615-A25A-4A4D-A892-DEB1EAB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39D-C19F-4DBC-9638-F74BCD65DD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35B-9BCE-436C-8B20-D180E56C8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B6E-5707-4073-930B-2A3B5FBE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2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6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C775-6E30-46A0-A506-3B83BF26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1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AC78-01ED-46C4-A387-54D1CE36C0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7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E75-9C1F-40A6-8AA9-1B1F49DDF6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D02-7F37-4757-A5B5-309D71E91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880-B26D-4285-96E6-822456FC0D8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66B-6E28-46B3-86D0-6FC06F6F164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B69-20C0-4487-87B3-404D1AAEC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670-9F0B-464A-800D-1E968F81F9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79E-AA01-48A2-9F86-7FD1CF6FE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617-D255-4EE4-9E6B-AC557F7F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CD2-D136-4E0F-9F96-9DBC057EF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-Lilong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- multi-party democ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- Bingu wa Mulha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ce- July 6,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area- 118,4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- Unity and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ligion and Curr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lawi 79.9% of the people are Christian, 12.8% of the people are Muslim, and other is 3%. The people that have no religion is 4.3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urrency of Malawi is the Kwa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7924680" y="3962520"/>
            <a:ext cx="922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-1219320" y="685800"/>
          <a:ext cx="1401840" cy="8278920"/>
        </p:xfrm>
        <a:graphic>
          <a:graphicData uri="http://schemas.openxmlformats.org/drawingml/2006/table">
            <a:tbl>
              <a:tblPr/>
              <a:tblGrid>
                <a:gridCol w="140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90360" y="700200"/>
            <a:ext cx="238320" cy="5688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Map of Malawi"/>
          <p:cNvPicPr/>
          <p:nvPr/>
        </p:nvPicPr>
        <p:blipFill>
          <a:blip r:embed="rId2"/>
          <a:stretch/>
        </p:blipFill>
        <p:spPr>
          <a:xfrm>
            <a:off x="2743200" y="1752480"/>
            <a:ext cx="3760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mate and 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Malawi’s climate is sub-trop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ve location of Malawi’s is southern Africa, east of Za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wi’s exact location is 13 degrees -30 degrees south, 34 degrees- 00 degrees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l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oliday- Independence day is Jul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wi’s Fla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anguag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chewa is Malawi’s official language, and 57.2% of their people speak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.8% of their people speak Chiny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15% speak Chiya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pulation and Natural Re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pulation- 13,931,83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Resources- limestone, arable land, hydropower, unexploited deposits of uranium, coal, and baux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6:28Z</dcterms:created>
  <dc:creator>emilyberry</dc:creator>
  <dc:description/>
  <dc:language>en-US</dc:language>
  <cp:lastModifiedBy>LCS_user</cp:lastModifiedBy>
  <dcterms:modified xsi:type="dcterms:W3CDTF">2008-11-12T12:42:41Z</dcterms:modified>
  <cp:revision>3</cp:revision>
  <dc:subject/>
  <dc:title>Malawi</dc:title>
</cp:coreProperties>
</file>